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DEC-4736-4778-8153-4369E627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900-F4B8-41AE-9620-B8AF8F6A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6FB9-3705-4482-9E82-EB934F6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8153A-E8D7-4B8C-A74F-F2039AE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71F7-AB53-444E-BA54-C991E93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531C2-9A81-4BA1-95DF-1C98735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D143A-B8CB-40B2-86BD-AC1A10A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E669-ACF5-444A-8231-C9334CB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A437C-9EC4-43D2-BE0B-D8B6D9C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200EA-C6A5-44E0-89EE-DB362626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CC27C-15E1-4813-9484-0D4A94A4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3F50-E4E6-4DCD-93A6-1E10F6A5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06E-80F8-4AEC-A418-11159F3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3631-DD7E-4449-AFCE-1761E53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15AEB-35FF-42A5-A165-2DCDEC5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ED7D-A176-4E73-BC81-E3A26C8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3CC32-2632-454F-83B7-0E74B96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07B67-686C-46AD-91C7-EBDC697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B6FB8-37AA-417D-85E1-EB07C78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C179-C728-4D27-95D0-6B1287E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B07E0-613A-435A-8640-9E2C548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C8AA-BFC7-41B1-A377-F28E192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69C9A-EDFC-4BEF-B667-64FD69B7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7F0-F158-4FE3-9DFC-A46BE580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B2164-8084-4288-BC37-EB117417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7CA66-7C48-4408-B63D-41D0C49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442AC-A772-45B4-865C-4ED81A6F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AC315-CBBE-40E1-826E-F2E9741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D9E2D-DD51-4CE2-84D0-A404A14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3546B-C781-44B7-98CA-7AD80DAA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26829-9B11-41FA-AAEF-03FC4A7F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A4664-7E10-4845-B802-6CF2C0D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5329-44F2-4AE3-8A6A-D6D53AE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7ECAE-4C90-489B-A5AE-8DBE985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8196-F149-4084-8579-5656DFE8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4568E-2B16-4292-87AA-F0FF4B17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DEB4-4743-4170-A8D3-6462DFAB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F7926-CFCF-4834-A852-9824A1A6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90714-F587-4B7E-A1FB-299940B6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23CB3-8C4C-43EB-B0F4-E665319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536B0-BE7F-48DA-9F14-44849FF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27BCD-5B83-4E6C-BE34-F5F6B41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2B7A3-4C68-4148-8E8A-3B92936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A3DCC-72DD-499E-9F4A-88293C3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5EE1C-EEFD-43EA-B9E9-CB443FE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BD4-DC09-44C7-B179-89B3D9BA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5607F-177D-4DED-A32F-1FB9A72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995E-8BA4-4C79-994B-185B566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062EF-D02F-475B-82A1-B88D490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669F9-5C7F-4EEA-A43D-90E54786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F2203-928F-4DF6-ABDB-BAA3C957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259-3B1E-4A76-9F69-A5FFA2B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8CE-31BC-49D3-A22E-57023DE1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81A-9FF0-4CAF-A4B2-4295A6A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42DF-4C63-42FD-9A84-BAF7B07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D5F-DBCB-4B18-8649-6B4D896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B98-3E09-4801-8293-6BD1620B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4ED-72CA-4DB5-AD9D-D0D105D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F78-AE71-42B0-A57B-DF8AEC9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ECB9-A1B4-44E5-90F7-C7B36975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C31-A5C1-41D0-90DC-CBC39F74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FCB9-3B09-4351-BD19-615D9BD6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88BF-B8CF-400D-BCA3-EDDD7B53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FD41-05C2-41E4-AC89-EF147609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E0F5-D124-4179-9D0A-6181DF3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EAFE-6795-48D1-8BE8-A828FE0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A80D-E2EE-42B9-B9C0-AD1DE36D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0D9-7D7A-4DBC-9280-E3E2C6B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2A47-1078-449D-B819-6A91E3E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73C2-19D0-488C-9A6A-1EB8F50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906E-2371-440D-A47F-653F91B0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4613-7A06-48FD-B6F1-1556AFD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F5F5-03D8-4B39-855F-7AC990C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E895-1122-471A-8548-F27DE47D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8428-0CFA-4A47-876F-41206BFC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4766-6B92-407D-8D9F-2906526C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8059-B6B7-43F6-8C8D-28B5661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232F-26FE-428A-BAA7-8D53D37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A98-0DB6-4A3F-9929-EA01B8D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BB62-1659-4A8C-A590-88E9FC8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CC9A-CD5C-43A5-B1DC-846C4FC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8ECC-FBAC-4BCA-8D9C-AF9F9D3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8CFB-C0D5-47CD-BE98-EE287D2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3470-A153-4500-B860-DC75A7A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D5D2-6272-4225-B414-BCA9F53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39E0-4933-4EBD-BD4D-9D26E79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50C5-7BE8-46B9-A856-F609AB27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FE2A-2135-4702-BB49-08CAF835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0BC6-CFDC-4973-8918-226667AF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91E-252B-4CCA-B2D3-721293F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6359-5FD8-4B2C-BFC7-E81166E7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01B7-B0A5-4CD8-8306-6EBA55A8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F469-D50B-4428-B744-CA94C583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D36D-20F3-4215-A65A-47CA9350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292A-65F7-441E-9518-FC73F2A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17EE-E465-4134-920A-73D94CD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5A44-8E22-43FA-81C1-E6EC10C0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F6FE-C43C-4607-857B-BE4D485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4285-69B3-4B28-8892-98ECCB6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49B3-8777-45C9-B22E-716D6648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6E9-E2E3-49F3-B044-31A6510D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C600-DBB1-463D-BF17-C31D01E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CD20-910C-4C9F-B8F7-ECD3BCAA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18A2-A849-4C47-85F0-2B7FEEE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1C96-05ED-48DB-95E8-C474854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1F01-7E89-4FF6-8AA4-32E310BE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E35C4-5597-4BF2-AB33-10908AE8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989F-BC01-4F82-91FA-B206A66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FB254-4284-4CB0-B449-F8733CE3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A9E2-6AFA-4979-B62C-1FA0291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6FFE-37BC-43AC-9D2F-74F6A3B3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307-8745-4B06-B07C-EDDEFE9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1A5D-409B-4947-8EA5-B2833AD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77DA-4860-421C-A8A2-00D92EBF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1250F-AC0D-4523-8D71-0DBB474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EAF3-C0CC-4DB2-B381-22AD8628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856B-6233-4417-866B-FAEEE36C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E043-F8AB-4B63-8D18-C3C21D6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D1AB-1F53-4F24-8896-279855CC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B5F2-6BCD-4178-8EB7-02A1EE67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3D23-AB6B-4E3F-A465-7E7244E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37F0-918B-4DD4-894E-458EEE6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B36-3F68-414A-81D7-226E8DA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F647F-D1D8-4A01-8B46-8F3B8FA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6100-477F-4A8A-8668-F3AE765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DEE58-6F3D-4954-B9A6-5445AD7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03E8-7C37-4D67-B19E-B20541EB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1B44-284F-426D-A77A-B3E94B5D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A90F7-2987-422E-8EF6-581B7BE6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6068-40A8-451C-8EBF-7080258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B2764-2E56-45D6-89B1-DE4B7EE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3050-863B-4B1B-8FB4-43F5B75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20F0-289A-49CC-B68F-BB6EDE6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4BD-381F-481A-BA08-18CCE25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6BAD-FC6A-43E0-AA61-2DFE82A2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9219D-2A7D-40AF-AFF2-59413FE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849D-31F7-45EC-9F2F-1E71C9B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452B-085E-472F-B662-7AC9FF3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69BC-9611-45D8-BDEC-8058FC3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38CD-B3E8-4C3B-989B-C16B0DB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7A31-01FD-422F-A5D4-A723D4AB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46BB-9E87-4CC9-B439-0C653667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B894C-06D4-42F9-8A78-F051517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F60FC-5B7A-43E8-9AB6-90C496BA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1DAF-C72F-4D01-8ECD-FB524C1B72D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E2E-62B1-4EC4-8B45-0CE875A174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376-E4BE-4298-BE2A-BAC1CDC7F0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D0F-FCBC-4085-BA50-2F2A64A8F8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6C12-938D-401F-90D9-C3B5B67D13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51C8-A5C5-43BE-891A-64946FFC51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886-5717-4C3F-9E45-DE0F73E306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77A5-E136-4487-850B-177A50514A4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F31-9978-4CB4-99D0-0B9EDA9132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013-545D-40B7-A5E8-7759BDCE90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0B7-1238-4533-84C1-68E3F1D09E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830-6049-445D-B846-E543D8F97AA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Hidrostatski i hidraulički t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oji li tlak u tekućin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li tlak svuda na Zemlji jedn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znači kad se u vremenskoj prognozi kaže da je atmosferski tlak 995 h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414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4"/>
          <p:cNvSpPr/>
          <p:nvPr/>
        </p:nvSpPr>
        <p:spPr>
          <a:xfrm>
            <a:off x="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hidrostatskog tlaka o du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1184400" y="5562720"/>
            <a:ext cx="7353000" cy="64260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rostatski tlak u tekućini djeluje na sve st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438280" cy="3400560"/>
          </a:xfrm>
          <a:prstGeom prst="rect">
            <a:avLst/>
          </a:prstGeom>
          <a:ln w="0">
            <a:noFill/>
          </a:ln>
        </p:spPr>
      </p:pic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228600" y="719280"/>
            <a:ext cx="1357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Hidrostatski t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609480" y="1828800"/>
            <a:ext cx="85345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je zbog težine tekuć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i o dubini tekućine i o njezinoj gustoć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1981080" y="3429000"/>
                <a:ext cx="199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5" name="Picture 6" descr="hidrostatski tlak"/>
          <p:cNvPicPr/>
          <p:nvPr/>
        </p:nvPicPr>
        <p:blipFill>
          <a:blip r:embed="rId1"/>
          <a:stretch/>
        </p:blipFill>
        <p:spPr>
          <a:xfrm>
            <a:off x="5486400" y="3200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7"/>
          <p:cNvSpPr/>
          <p:nvPr/>
        </p:nvSpPr>
        <p:spPr>
          <a:xfrm>
            <a:off x="2736720" y="5486400"/>
            <a:ext cx="27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ređaj za hidrostatski tlak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sudama različitog oblika i jednak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na. Dokazuje se da hidrostatski tl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 ovisi o težini tekućine u posu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Atmosferski t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4"/>
          <p:cNvSpPr/>
          <p:nvPr/>
        </p:nvSpPr>
        <p:spPr>
          <a:xfrm>
            <a:off x="536040" y="2362320"/>
            <a:ext cx="44521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je zbog težine atmos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manjuje se porastom  vi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43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Atmosferski tl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5" descr="meteo"/>
          <p:cNvPicPr/>
          <p:nvPr/>
        </p:nvPicPr>
        <p:blipFill>
          <a:blip r:embed="rId1"/>
          <a:stretch/>
        </p:blipFill>
        <p:spPr>
          <a:xfrm>
            <a:off x="380880" y="1371600"/>
            <a:ext cx="3962520" cy="31701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6"/>
          <p:cNvSpPr/>
          <p:nvPr/>
        </p:nvSpPr>
        <p:spPr>
          <a:xfrm>
            <a:off x="4572000" y="182880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Ciklon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odruč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 sniže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Anticiklon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odruč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poviše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raka (normalni tlak zraka 1013 hP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60720" y="4681440"/>
            <a:ext cx="213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eteorološka karta Europ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dacima o tlaku zr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3"/>
          <p:cNvSpPr/>
          <p:nvPr/>
        </p:nvSpPr>
        <p:spPr>
          <a:xfrm>
            <a:off x="-101880" y="1676520"/>
            <a:ext cx="8122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hidrostatski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hidrostatski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iz slamke napunjene vodom ne curi voda ako 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čepimo na vrh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isi li atmosferski tlak o nadmorskoj visini? Objasn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Slika 1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6:57Z</dcterms:modified>
  <cp:revision>67</cp:revision>
  <dc:subject/>
  <dc:title>Slide 1</dc:title>
</cp:coreProperties>
</file>